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977-DFA0-4A48-AD8A-985BAC38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A13-3A9B-423E-B300-65B4461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4AB-59FC-46C5-BEBE-24BD0FA94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A4BB-7DE2-489A-BDF7-7D369706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51A4-065B-4FDA-943A-CB892D9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D057-FD6D-4099-80A9-6E3B99AF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F404-2841-4C97-9A3E-06714093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9F49-6F4C-4ABF-A619-B47F57BE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55F1-2AC1-448D-AF10-2A3C11E8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33B3-FB90-4F07-9371-2C651E1B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BEEA0-BD5F-43FF-9D3E-15B8458F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CF36-EF67-4E36-9339-9BA679F6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DC9B-4272-47F1-A252-B18BD34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29C4-5FF5-4502-86BB-7A4EBDF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414F-62EE-4B55-9CA6-0EF3ED9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8009-3DA9-4DA6-93E0-F9305595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39C9-6AE8-4ECC-A900-6A079EBA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446-AA0B-4490-B759-84BBDC2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03B-D667-493A-87AD-D864242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FBA-EA7C-4DB2-96FB-91802E6F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88A-208D-402C-A3A1-85BFBDFE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A128-E2A6-4363-B04F-39268206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305-B472-4675-8139-2D1747EA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AFA-3E92-48B8-B38C-9BCB4C86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CB7D-80C1-43E7-BC3E-69232EFBE2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42AE-E62B-4F47-8CEE-0F7413F42F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PE 481 - Minesweep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3200" y="6248160"/>
            <a:ext cx="6400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feez Ja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testField1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59424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testField2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3881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testField3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59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testField4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4689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testField5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706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testField6" descr=""/>
          <p:cNvPicPr/>
          <p:nvPr/>
        </p:nvPicPr>
        <p:blipFill>
          <a:blip r:embed="rId1"/>
          <a:stretch/>
        </p:blipFill>
        <p:spPr>
          <a:xfrm>
            <a:off x="1066680" y="1951200"/>
            <a:ext cx="632484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templa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1981080"/>
            <a:ext cx="5333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id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row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col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status ?statu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surroundingUnknown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ultislot allSurroundingSquares) - integ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SurroundingFlag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inefield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SquaresKnown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numberMines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Height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lot mineWidth) -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- Defgloba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PTY_SQU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AGGED_M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GUI hook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reveal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lag-square ?row ?co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lementation Details – Jess comman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3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ttp://www.cs.vu.nl/~ksprac/2002/doc/Jess60/functions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ngth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number of fields in a multifield valu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first argument is a subset of the second (i.e., all the elements of the first multifield appear in the second multifield); otherwise, returns FALS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ment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a new multifield consisting of all elements of the second multifield not appearing in the first multifiel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section$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he intersection of two multifields. Returns a multifield consisting of the elements the two argument multifields have in commo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true if the argument is true, false otherwis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28800" y="2286000"/>
          <a:ext cx="254808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25480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5241960" y="2319480"/>
            <a:ext cx="344484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le of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ly created by Robert Donner and Curt Joh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838080" y="1981080"/>
          <a:ext cx="1743120" cy="23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174312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491920" y="2438280"/>
            <a:ext cx="38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open and save mine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4495680"/>
          <a:ext cx="121932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121932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057400" y="48006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 more freedom in choosing minefield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w Features 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2209680"/>
          <a:ext cx="4081680" cy="43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0816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557240" y="2928960"/>
            <a:ext cx="40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Rete engine on/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 Rete engin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all combinations (be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al of the Assig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a JESS agent that will find mines in a given Mine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esweeper.c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in the Jess directory, each rule that is written in this file will be loaded and executed by the MineSweeper program to determine min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ally deduce and flag mine locations in a given solvable minefield (one that doesn't require guessin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all the test cases in the "testCases" direc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ve expert minefields in an efficient and fast man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 breakdow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implementing the deffunctions "flagAllSurroundingUnknowns" and "revealAllSurroundingUnknown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points for the test ru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points for the README file and documentation of the source cod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mis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minesweeper.clp" 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ing the JESS rules to solve a given mine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ME file documenting how your agent deduces mine locations and any known limi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st C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esentation contains 6 basic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may not be the ones I use to test you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8:11:33Z</dcterms:created>
  <dc:creator>hjaffer</dc:creator>
  <dc:description/>
  <dc:language>en-US</dc:language>
  <cp:lastModifiedBy>hjaffer</cp:lastModifiedBy>
  <dcterms:modified xsi:type="dcterms:W3CDTF">2004-01-30T21:00:35Z</dcterms:modified>
  <cp:revision>16</cp:revision>
  <dc:subject/>
  <dc:title>CPE 481 - Minesweeper</dc:title>
</cp:coreProperties>
</file>